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2.wmf" ContentType="image/x-wmf"/>
  <Override PartName="/ppt/media/image32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13.wmf" ContentType="image/x-wmf"/>
  <Override PartName="/ppt/media/image30.png" ContentType="image/png"/>
  <Override PartName="/ppt/media/image4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42.wmf" ContentType="image/x-wmf"/>
  <Override PartName="/ppt/media/image28.png" ContentType="image/png"/>
  <Override PartName="/ppt/media/image31.wmf" ContentType="image/x-wmf"/>
  <Override PartName="/ppt/media/image46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17C7-4F1A-4556-B5D2-3D639369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D64D-44AB-4115-91B8-C5A7E0CB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D30-1824-4C5E-96A4-23FB7537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9D56-388B-4270-8231-45C5703B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1C9B-69A3-475B-90DF-76CC3502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E046-CD32-4239-B3A6-956C9B93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A560-F9DE-4491-9D4F-4648FA4E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F427-E32B-419F-B38B-86AB7101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5750-EB40-46A6-A90C-7795F19F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3C52-EACF-47BB-88E9-6849F156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8604-7222-44B3-AA61-4E7657A7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CEB-F56D-4357-8C1A-5767E4F4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19FD-63A4-4A29-8D15-29A89EA3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43D5-F233-47C1-B28B-63161685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8068-A315-484E-97E4-34C1A73C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2881-3270-4015-A482-DB8B292C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00B0-CCF4-41A9-B00D-5FF952D9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47AA8-DDAA-4DD7-92CD-EEBA37C0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643D5-1297-4C18-A20A-0158C393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AC593B-ED8D-4C79-9E97-96C36820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DCC8F-F2D9-4C90-8D47-9854FD09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12591-7FDE-49A7-9B35-1644D12F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C53C-261D-4E31-A8E6-55C57172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72E69-673C-42F7-BED1-722464CC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EE9F9-BC5A-4EF7-AA62-D8319789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48F94-4890-4503-B262-20934F7E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4780B-123D-4AA4-9F2B-E49337B9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F2ECB-D54A-4BC1-B808-6D33D86F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55C24-539D-463D-9F46-F830BD4C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8A2F5-0E93-4B6B-A262-6212A5C6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72D32-7349-4CE4-A020-B26947A5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17F62-6C95-413F-B758-BFD9958E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AB654-C9EE-4726-929E-A4F98916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0331-9424-47A2-97CD-C4FDB9C7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A3483-E622-4A13-B506-54CAE72B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47526-6A12-449B-AA82-74920EC5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C9FF3-011F-49D0-A961-F868261F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B5849-E32C-4955-B61E-132A74F6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684D3-7EE6-4F12-8180-28E9AA00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9D8C5-31B8-4F4A-B18F-77A31F51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653EE-9CEA-4C63-9D0F-EB6CBB65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41C33-411F-4AB7-AA00-1A56A028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262E6-2667-445D-A247-F566B454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19C3-7929-465D-AF8E-F22FA8E4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287B-CBD9-4326-BB6E-EA4BA13E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9D7-97EE-4E0D-A1A5-23F3D079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EDE-4806-47C7-A83E-C4A2FAEA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A89-D080-45A1-B930-306AA153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9A33-07F1-4F20-B365-5EEE023B2223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64C5-EA96-4BC9-85FC-68D9BB6E3B8F}" type="slidenum">
              <a:rPr b="0" lang="ru-RU" sz="1200" spc="-1" strike="noStrike">
                <a:solidFill>
                  <a:srgbClr val="94c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5C9B-795B-4D67-8D95-B118B9B7BEA3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51C5-9465-4298-9C91-7DD740C69333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entury Gothic"/>
              </a:rPr>
              <a:t>РАСКРЫТИЕ  НЕОПРЕДЕЛЕННОСТЕЙ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Century Gothic"/>
              </a:rPr>
              <a:t>Правило Лопиталя ( </a:t>
            </a:r>
            <a:r>
              <a:rPr b="0" lang="en-US" sz="2800" spc="-1" strike="noStrike">
                <a:solidFill>
                  <a:srgbClr val="993300"/>
                </a:solidFill>
                <a:latin typeface="Century Gothic"/>
              </a:rPr>
              <a:t>L’Hopitale)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Picture 1" descr="http://www.math24.ru/images/Hopital.jpg"/>
          <p:cNvPicPr/>
          <p:nvPr/>
        </p:nvPicPr>
        <p:blipFill>
          <a:blip r:embed="rId1"/>
          <a:stretch/>
        </p:blipFill>
        <p:spPr>
          <a:xfrm>
            <a:off x="684360" y="2349360"/>
            <a:ext cx="3024000" cy="3608640"/>
          </a:xfrm>
          <a:prstGeom prst="rect">
            <a:avLst/>
          </a:prstGeom>
          <a:ln w="0">
            <a:noFill/>
          </a:ln>
        </p:spPr>
      </p:pic>
      <p:sp>
        <p:nvSpPr>
          <p:cNvPr id="337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FE1C-3F06-492F-9CCC-4D01C2FD7866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0"/>
          <p:cNvSpPr/>
          <p:nvPr/>
        </p:nvSpPr>
        <p:spPr>
          <a:xfrm>
            <a:off x="3924360" y="2060640"/>
            <a:ext cx="424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Это правило впер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поминалось в кни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 дифференциальн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счислению, опубликова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1696  г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французским математи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Гийомом Лопитал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(1661- 1704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Пример </a:t>
            </a: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2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6840" y="1125000"/>
            <a:ext cx="18111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Найти</a:t>
            </a: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BB86-597E-40E6-8A71-4CA7935CDD4F}" type="slidenum">
              <a:rPr b="0" lang="ru-RU" sz="12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Объект 4"/>
              <p:cNvSpPr txBox="1"/>
              <p:nvPr/>
            </p:nvSpPr>
            <p:spPr>
              <a:xfrm>
                <a:off x="585720" y="1484280"/>
                <a:ext cx="34387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TextBox 5"/>
          <p:cNvSpPr/>
          <p:nvPr/>
        </p:nvSpPr>
        <p:spPr>
          <a:xfrm>
            <a:off x="133200" y="2708280"/>
            <a:ext cx="67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Имеем неопределенность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Объект 6"/>
              <p:cNvSpPr txBox="1"/>
              <p:nvPr/>
            </p:nvSpPr>
            <p:spPr>
              <a:xfrm>
                <a:off x="6667560" y="2492280"/>
                <a:ext cx="6271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Объект 7"/>
              <p:cNvSpPr txBox="1"/>
              <p:nvPr/>
            </p:nvSpPr>
            <p:spPr>
              <a:xfrm>
                <a:off x="1379520" y="3213000"/>
                <a:ext cx="5261040" cy="27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x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x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878040" y="476280"/>
            <a:ext cx="6608520" cy="2522520"/>
          </a:xfrm>
          <a:prstGeom prst="rect">
            <a:avLst/>
          </a:prstGeom>
          <a:ln w="0">
            <a:noFill/>
          </a:ln>
        </p:spPr>
      </p:pic>
      <p:sp>
        <p:nvSpPr>
          <p:cNvPr id="461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AEAC-E05A-4214-B3A3-0E667D92232C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Объект 6"/>
              <p:cNvSpPr txBox="1"/>
              <p:nvPr/>
            </p:nvSpPr>
            <p:spPr>
              <a:xfrm>
                <a:off x="5003640" y="765000"/>
                <a:ext cx="574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Объект 7"/>
              <p:cNvSpPr txBox="1"/>
              <p:nvPr/>
            </p:nvSpPr>
            <p:spPr>
              <a:xfrm>
                <a:off x="3924360" y="2224080"/>
                <a:ext cx="461304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TextBox 10"/>
          <p:cNvSpPr/>
          <p:nvPr/>
        </p:nvSpPr>
        <p:spPr>
          <a:xfrm>
            <a:off x="491760" y="318276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e3d2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Ответ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Объект 11"/>
              <p:cNvSpPr txBox="1"/>
              <p:nvPr/>
            </p:nvSpPr>
            <p:spPr>
              <a:xfrm>
                <a:off x="3780000" y="3645000"/>
                <a:ext cx="21571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TextBox 12"/>
          <p:cNvSpPr/>
          <p:nvPr/>
        </p:nvSpPr>
        <p:spPr>
          <a:xfrm>
            <a:off x="419040" y="4479840"/>
            <a:ext cx="67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e3d2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Решени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меем неопределенность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Объект 13"/>
              <p:cNvSpPr txBox="1"/>
              <p:nvPr/>
            </p:nvSpPr>
            <p:spPr>
              <a:xfrm>
                <a:off x="7380360" y="4451400"/>
                <a:ext cx="128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∞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8" name="TextBox 14"/>
          <p:cNvSpPr/>
          <p:nvPr/>
        </p:nvSpPr>
        <p:spPr>
          <a:xfrm>
            <a:off x="684360" y="5127480"/>
            <a:ext cx="71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ереписываем данное выражение в в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TextBox 2" descr=""/>
          <p:cNvPicPr/>
          <p:nvPr/>
        </p:nvPicPr>
        <p:blipFill>
          <a:blip r:embed="rId2"/>
          <a:stretch/>
        </p:blipFill>
        <p:spPr>
          <a:xfrm>
            <a:off x="1047600" y="3560760"/>
            <a:ext cx="27259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1" descr=""/>
          <p:cNvPicPr/>
          <p:nvPr/>
        </p:nvPicPr>
        <p:blipFill>
          <a:blip r:embed="rId1"/>
          <a:stretch/>
        </p:blipFill>
        <p:spPr>
          <a:xfrm>
            <a:off x="901800" y="2120760"/>
            <a:ext cx="6742080" cy="1670040"/>
          </a:xfrm>
          <a:prstGeom prst="rect">
            <a:avLst/>
          </a:prstGeom>
          <a:ln w="0">
            <a:noFill/>
          </a:ln>
        </p:spPr>
      </p:pic>
      <p:sp>
        <p:nvSpPr>
          <p:cNvPr id="471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D80E-0F4C-4AAB-B8E9-1E23DBF0A9AC}" type="slidenum">
              <a:rPr b="0" lang="ru-RU" sz="12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Объект 6"/>
              <p:cNvSpPr txBox="1"/>
              <p:nvPr/>
            </p:nvSpPr>
            <p:spPr>
              <a:xfrm>
                <a:off x="6516720" y="2060640"/>
                <a:ext cx="72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∞</m:t>
                            </m:r>
                          </m:num>
                          <m:den>
                            <m:r>
                              <m:t xml:space="preserve">∞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3" name="TextBox 10"/>
          <p:cNvSpPr/>
          <p:nvPr/>
        </p:nvSpPr>
        <p:spPr>
          <a:xfrm>
            <a:off x="491760" y="5703840"/>
            <a:ext cx="20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твет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Объект 2"/>
              <p:cNvSpPr txBox="1"/>
              <p:nvPr/>
            </p:nvSpPr>
            <p:spPr>
              <a:xfrm>
                <a:off x="826920" y="595440"/>
                <a:ext cx="496908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Объект 5"/>
              <p:cNvSpPr txBox="1"/>
              <p:nvPr/>
            </p:nvSpPr>
            <p:spPr>
              <a:xfrm>
                <a:off x="755640" y="3500280"/>
                <a:ext cx="6985080" cy="18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∞</m:t>
                            </m:r>
                          </m:num>
                          <m:den>
                            <m:r>
                              <m:t xml:space="preserve">∞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num>
                          <m:den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i="1" lang="ru-RU" sz="22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1557360"/>
            <a:ext cx="770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entury Gothic"/>
              </a:rPr>
              <a:t>3)</a:t>
            </a:r>
            <a:r>
              <a:rPr b="1" lang="ru-RU" sz="2400" spc="-1" strike="noStrike">
                <a:solidFill>
                  <a:srgbClr val="000099"/>
                </a:solidFill>
                <a:latin typeface="Century Gothic"/>
              </a:rPr>
              <a:t>  </a:t>
            </a:r>
            <a:r>
              <a:rPr b="1" i="1" lang="ru-RU" sz="2400" spc="-1" strike="noStrike">
                <a:solidFill>
                  <a:srgbClr val="000099"/>
                </a:solidFill>
                <a:latin typeface="Century Gothic"/>
              </a:rPr>
              <a:t>Неопределенности  типа    </a:t>
            </a:r>
            <a:r>
              <a:rPr b="1" lang="ru-RU" sz="2400" spc="-1" strike="noStrike">
                <a:solidFill>
                  <a:srgbClr val="000099"/>
                </a:solidFill>
                <a:latin typeface="Century Gothic"/>
              </a:rPr>
              <a:t>(            </a:t>
            </a:r>
            <a:r>
              <a:rPr b="0" lang="ru-RU" sz="2400" spc="-1" strike="noStrike">
                <a:solidFill>
                  <a:srgbClr val="000099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ля вычисления предел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носящегося к неопределенности типа                     следует представить разность                         в виде неопределенности типа        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лее воспользоваться правилом Лопитал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8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2CF0-4F96-4E0F-9812-9C860FE469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Object 4"/>
          <p:cNvGraphicFramePr/>
          <p:nvPr/>
        </p:nvGraphicFramePr>
        <p:xfrm>
          <a:off x="5435640" y="1628640"/>
          <a:ext cx="1125360" cy="3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628640"/>
                    <a:ext cx="11253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Rectangle 7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Object 6"/>
          <p:cNvGraphicFramePr/>
          <p:nvPr/>
        </p:nvGraphicFramePr>
        <p:xfrm>
          <a:off x="4788000" y="2060640"/>
          <a:ext cx="280836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060640"/>
                    <a:ext cx="28083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Object 8"/>
          <p:cNvGraphicFramePr/>
          <p:nvPr/>
        </p:nvGraphicFramePr>
        <p:xfrm>
          <a:off x="7093080" y="2708280"/>
          <a:ext cx="1079280" cy="31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93080" y="2708280"/>
                    <a:ext cx="107928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Object 10"/>
          <p:cNvGraphicFramePr/>
          <p:nvPr/>
        </p:nvGraphicFramePr>
        <p:xfrm>
          <a:off x="5435640" y="3097080"/>
          <a:ext cx="1800360" cy="54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0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35640" y="3097080"/>
                    <a:ext cx="180036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Object 12"/>
          <p:cNvGraphicFramePr/>
          <p:nvPr/>
        </p:nvGraphicFramePr>
        <p:xfrm>
          <a:off x="5364000" y="3500280"/>
          <a:ext cx="289080" cy="79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3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64000" y="3500280"/>
                    <a:ext cx="2890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14"/>
          <p:cNvGraphicFramePr/>
          <p:nvPr/>
        </p:nvGraphicFramePr>
        <p:xfrm>
          <a:off x="1187280" y="4140360"/>
          <a:ext cx="5905800" cy="1952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6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4140360"/>
                    <a:ext cx="590580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3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4c600"/>
                </a:solidFill>
                <a:latin typeface="Century Gothic"/>
              </a:rPr>
              <a:t>Пример  5</a:t>
            </a:r>
            <a:endParaRPr b="0" lang="en-US" sz="2200" spc="-1" strike="noStrike">
              <a:solidFill>
                <a:srgbClr val="94c6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Объект 4"/>
              <p:cNvSpPr txBox="1"/>
              <p:nvPr/>
            </p:nvSpPr>
            <p:spPr>
              <a:xfrm>
                <a:off x="1932120" y="2637000"/>
                <a:ext cx="4655880" cy="26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∞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9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237D-EC49-4155-9ACA-14298DC212AE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5"/>
          <p:cNvSpPr/>
          <p:nvPr/>
        </p:nvSpPr>
        <p:spPr>
          <a:xfrm>
            <a:off x="385920" y="1125360"/>
            <a:ext cx="15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3"/>
              <p:cNvSpPr txBox="1"/>
              <p:nvPr/>
            </p:nvSpPr>
            <p:spPr>
              <a:xfrm>
                <a:off x="1908000" y="949320"/>
                <a:ext cx="22370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2" name="TextBox 3"/>
          <p:cNvSpPr/>
          <p:nvPr/>
        </p:nvSpPr>
        <p:spPr>
          <a:xfrm>
            <a:off x="400680" y="2060640"/>
            <a:ext cx="16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3"/>
          <p:cNvSpPr/>
          <p:nvPr/>
        </p:nvSpPr>
        <p:spPr>
          <a:xfrm>
            <a:off x="541440" y="5445000"/>
            <a:ext cx="117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8"/>
              <p:cNvSpPr txBox="1"/>
              <p:nvPr/>
            </p:nvSpPr>
            <p:spPr>
              <a:xfrm>
                <a:off x="1692360" y="5327640"/>
                <a:ext cx="5522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66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250560" y="1125000"/>
            <a:ext cx="87138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entury Gothic"/>
              </a:rPr>
              <a:t>4)  Неопределенности  типа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7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331A-194B-4407-91DC-45438C65A2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Object 4"/>
          <p:cNvGraphicFramePr/>
          <p:nvPr/>
        </p:nvGraphicFramePr>
        <p:xfrm>
          <a:off x="6121440" y="1125360"/>
          <a:ext cx="208764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1440" y="1125360"/>
                    <a:ext cx="20876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Rectangle 6"/>
          <p:cNvSpPr/>
          <p:nvPr/>
        </p:nvSpPr>
        <p:spPr>
          <a:xfrm>
            <a:off x="469800" y="184356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ычисления преде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Object 7"/>
          <p:cNvGraphicFramePr/>
          <p:nvPr/>
        </p:nvGraphicFramePr>
        <p:xfrm>
          <a:off x="4375080" y="1730520"/>
          <a:ext cx="1944720" cy="68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75080" y="1730520"/>
                    <a:ext cx="19447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Rectangle 10"/>
          <p:cNvSpPr/>
          <p:nvPr/>
        </p:nvSpPr>
        <p:spPr>
          <a:xfrm>
            <a:off x="245880" y="256428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функц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Object 9"/>
          <p:cNvGraphicFramePr/>
          <p:nvPr/>
        </p:nvGraphicFramePr>
        <p:xfrm>
          <a:off x="2556000" y="2565360"/>
          <a:ext cx="151128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2565360"/>
                    <a:ext cx="15112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Rectangle 11"/>
          <p:cNvSpPr/>
          <p:nvPr/>
        </p:nvSpPr>
        <p:spPr>
          <a:xfrm>
            <a:off x="324000" y="299628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учаи, нужно выполнить следующие 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46080" y="3427920"/>
            <a:ext cx="45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преобразовать выра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Object 12"/>
          <p:cNvGraphicFramePr/>
          <p:nvPr/>
        </p:nvGraphicFramePr>
        <p:xfrm>
          <a:off x="4714920" y="3357720"/>
          <a:ext cx="1297080" cy="51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1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357720"/>
                    <a:ext cx="12970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Rectangle 14"/>
          <p:cNvSpPr/>
          <p:nvPr/>
        </p:nvSpPr>
        <p:spPr>
          <a:xfrm>
            <a:off x="3534480" y="37882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огарифмического тождества: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421560" y="3789360"/>
            <a:ext cx="34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помощью основ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6"/>
          <p:cNvSpPr/>
          <p:nvPr/>
        </p:nvSpPr>
        <p:spPr>
          <a:xfrm>
            <a:off x="4286520" y="2565360"/>
            <a:ext cx="37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адают в перечис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8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Object 17"/>
          <p:cNvGraphicFramePr/>
          <p:nvPr/>
        </p:nvGraphicFramePr>
        <p:xfrm>
          <a:off x="2556000" y="4149720"/>
          <a:ext cx="4895640" cy="855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7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6000" y="4149720"/>
                    <a:ext cx="489564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20"/>
          <p:cNvGraphicFramePr/>
          <p:nvPr/>
        </p:nvGraphicFramePr>
        <p:xfrm>
          <a:off x="5857920" y="4857840"/>
          <a:ext cx="2303280" cy="582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9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57920" y="4857840"/>
                    <a:ext cx="23032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19"/>
          <p:cNvGraphicFramePr/>
          <p:nvPr/>
        </p:nvGraphicFramePr>
        <p:xfrm>
          <a:off x="6153120" y="5781600"/>
          <a:ext cx="1008000" cy="528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1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53120" y="5781600"/>
                    <a:ext cx="100800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Rectangle 21"/>
          <p:cNvSpPr/>
          <p:nvPr/>
        </p:nvSpPr>
        <p:spPr>
          <a:xfrm>
            <a:off x="236880" y="494064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)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числить предел произве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2"/>
          <p:cNvSpPr/>
          <p:nvPr/>
        </p:nvSpPr>
        <p:spPr>
          <a:xfrm>
            <a:off x="2286000" y="5360040"/>
            <a:ext cx="57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х перечисленных случаях имеет неопределенность  тип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3"/>
          <p:cNvSpPr/>
          <p:nvPr/>
        </p:nvSpPr>
        <p:spPr>
          <a:xfrm>
            <a:off x="90360" y="38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4"/>
          <p:cNvSpPr/>
          <p:nvPr/>
        </p:nvSpPr>
        <p:spPr>
          <a:xfrm>
            <a:off x="642960" y="4941720"/>
            <a:ext cx="849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торое 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0" y="35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i="1" lang="ru-RU" sz="1800" spc="-1" strike="noStrike" u="sng">
                <a:solidFill>
                  <a:srgbClr val="94c600"/>
                </a:solidFill>
                <a:uFillTx/>
                <a:latin typeface="Century Gothic"/>
              </a:rPr>
              <a:t> </a:t>
            </a:r>
            <a:r>
              <a:rPr b="0" i="1" lang="ru-RU" sz="18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1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4000" y="1628280"/>
            <a:ext cx="79261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3)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воспользоваться свойством непрерывности функции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0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761D-D140-4611-8886-E01108F6EC2E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Object 4"/>
          <p:cNvGraphicFramePr/>
          <p:nvPr/>
        </p:nvGraphicFramePr>
        <p:xfrm>
          <a:off x="2771640" y="1844640"/>
          <a:ext cx="151308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844640"/>
                    <a:ext cx="15130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Object 6"/>
          <p:cNvGraphicFramePr/>
          <p:nvPr/>
        </p:nvGraphicFramePr>
        <p:xfrm>
          <a:off x="395280" y="2997360"/>
          <a:ext cx="741672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997360"/>
                    <a:ext cx="7416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Пример 6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Объект 1"/>
              <p:cNvSpPr txBox="1"/>
              <p:nvPr/>
            </p:nvSpPr>
            <p:spPr>
              <a:xfrm>
                <a:off x="2268360" y="1442880"/>
                <a:ext cx="2157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9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9C8E-2A81-45E9-9F4F-BD22C30D27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2"/>
          <p:cNvSpPr/>
          <p:nvPr/>
        </p:nvSpPr>
        <p:spPr>
          <a:xfrm>
            <a:off x="979200" y="1557360"/>
            <a:ext cx="11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3"/>
          <p:cNvSpPr/>
          <p:nvPr/>
        </p:nvSpPr>
        <p:spPr>
          <a:xfrm>
            <a:off x="977040" y="2349360"/>
            <a:ext cx="16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Объект 4"/>
              <p:cNvSpPr txBox="1"/>
              <p:nvPr/>
            </p:nvSpPr>
            <p:spPr>
              <a:xfrm>
                <a:off x="770040" y="2781360"/>
                <a:ext cx="6538680" cy="33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lim>
                        </m:limLow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⋅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lim>
                        </m:limLow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∞</m:t>
                                </m:r>
                              </m:num>
                              <m:den>
                                <m:r>
                                  <m:t xml:space="preserve">∞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320840" y="2852280"/>
            <a:ext cx="13795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ак как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4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A775-7B14-4EA9-A196-9E0971CCE2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Объект 4"/>
              <p:cNvSpPr txBox="1"/>
              <p:nvPr/>
            </p:nvSpPr>
            <p:spPr>
              <a:xfrm>
                <a:off x="1560600" y="620640"/>
                <a:ext cx="3371760" cy="19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Объект 8"/>
              <p:cNvSpPr txBox="1"/>
              <p:nvPr/>
            </p:nvSpPr>
            <p:spPr>
              <a:xfrm>
                <a:off x="2940120" y="2205000"/>
                <a:ext cx="249552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7" name="TextBox 11"/>
          <p:cNvSpPr/>
          <p:nvPr/>
        </p:nvSpPr>
        <p:spPr>
          <a:xfrm>
            <a:off x="1508400" y="4365720"/>
            <a:ext cx="140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Отсю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Объект 12"/>
              <p:cNvSpPr txBox="1"/>
              <p:nvPr/>
            </p:nvSpPr>
            <p:spPr>
              <a:xfrm>
                <a:off x="2719440" y="4221000"/>
                <a:ext cx="26985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9" name="TextBox 13"/>
          <p:cNvSpPr/>
          <p:nvPr/>
        </p:nvSpPr>
        <p:spPr>
          <a:xfrm>
            <a:off x="3421800" y="5661000"/>
            <a:ext cx="157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Ответ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: 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Объект 1" descr=""/>
          <p:cNvPicPr/>
          <p:nvPr/>
        </p:nvPicPr>
        <p:blipFill>
          <a:blip r:embed="rId1"/>
          <a:stretch/>
        </p:blipFill>
        <p:spPr>
          <a:xfrm>
            <a:off x="281160" y="291960"/>
            <a:ext cx="7600680" cy="1646280"/>
          </a:xfrm>
          <a:prstGeom prst="rect">
            <a:avLst/>
          </a:prstGeom>
          <a:ln w="0">
            <a:noFill/>
          </a:ln>
        </p:spPr>
      </p:pic>
      <p:sp>
        <p:nvSpPr>
          <p:cNvPr id="561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478D-3034-400C-84EB-8033CADA0A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5708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3200" spc="-1" strike="noStrike">
                <a:solidFill>
                  <a:srgbClr val="993300"/>
                </a:solidFill>
                <a:latin typeface="Century Gothic"/>
              </a:rPr>
              <a:t> </a:t>
            </a:r>
            <a:r>
              <a:rPr b="0" lang="ru-RU" sz="2500" spc="-1" strike="noStrike">
                <a:solidFill>
                  <a:srgbClr val="993300"/>
                </a:solidFill>
                <a:latin typeface="Century Gothic"/>
              </a:rPr>
              <a:t>РАСКРЫТИЕ  НЕОПРЕДЕЛЕННОСТЕЙ</a:t>
            </a:r>
            <a:br>
              <a:rPr sz="2500"/>
            </a:br>
            <a:r>
              <a:rPr b="0" lang="ru-RU" sz="2500" spc="-1" strike="noStrike">
                <a:solidFill>
                  <a:srgbClr val="993300"/>
                </a:solidFill>
                <a:latin typeface="Century Gothic"/>
              </a:rPr>
              <a:t>Правило Лопиталя ( </a:t>
            </a:r>
            <a:r>
              <a:rPr b="0" lang="en-US" sz="2500" spc="-1" strike="noStrike">
                <a:solidFill>
                  <a:srgbClr val="993300"/>
                </a:solidFill>
                <a:latin typeface="Century Gothic"/>
              </a:rPr>
              <a:t>L’Hopitale)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920" y="1557360"/>
            <a:ext cx="7634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entury Gothic"/>
              </a:rPr>
              <a:t>  </a:t>
            </a:r>
            <a:r>
              <a:rPr b="1" i="1" lang="ru-RU" sz="2800" spc="-1" strike="noStrike">
                <a:solidFill>
                  <a:srgbClr val="000099"/>
                </a:solidFill>
                <a:latin typeface="Century Gothic"/>
              </a:rPr>
              <a:t>Неопределенности  типа      или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ля вычисления предела                 ,  относящегося к  неопределенности типа 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ли       ,   при                   условии  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 существовании конечного предела   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льзую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равилом  Лопитал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1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5D3B-9577-4128-BFD7-BF2C11ED1BE1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Object 5"/>
          <p:cNvGraphicFramePr/>
          <p:nvPr/>
        </p:nvGraphicFramePr>
        <p:xfrm>
          <a:off x="5508720" y="1557360"/>
          <a:ext cx="3585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1557360"/>
                    <a:ext cx="358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6804000" y="1484280"/>
          <a:ext cx="504720" cy="6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1484280"/>
                    <a:ext cx="50472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8"/>
          <p:cNvGraphicFramePr/>
          <p:nvPr/>
        </p:nvGraphicFramePr>
        <p:xfrm>
          <a:off x="4572000" y="2205000"/>
          <a:ext cx="122400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205000"/>
                    <a:ext cx="1224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10"/>
          <p:cNvGraphicFramePr/>
          <p:nvPr/>
        </p:nvGraphicFramePr>
        <p:xfrm>
          <a:off x="6659640" y="2924280"/>
          <a:ext cx="358560" cy="57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9640" y="2924280"/>
                    <a:ext cx="3585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12"/>
          <p:cNvGraphicFramePr/>
          <p:nvPr/>
        </p:nvGraphicFramePr>
        <p:xfrm>
          <a:off x="1403280" y="3500280"/>
          <a:ext cx="504720" cy="72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4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03280" y="3500280"/>
                    <a:ext cx="504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14"/>
          <p:cNvGraphicFramePr/>
          <p:nvPr/>
        </p:nvGraphicFramePr>
        <p:xfrm>
          <a:off x="5867280" y="3500280"/>
          <a:ext cx="1441440" cy="63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7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7280" y="3500280"/>
                    <a:ext cx="144144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16"/>
          <p:cNvGraphicFramePr/>
          <p:nvPr/>
        </p:nvGraphicFramePr>
        <p:xfrm>
          <a:off x="2916360" y="3500280"/>
          <a:ext cx="1368360" cy="841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0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16360" y="3500280"/>
                    <a:ext cx="1368360" cy="8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9"/>
          <p:cNvGraphicFramePr/>
          <p:nvPr/>
        </p:nvGraphicFramePr>
        <p:xfrm>
          <a:off x="1619280" y="5373720"/>
          <a:ext cx="2089080" cy="119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2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19280" y="5373720"/>
                    <a:ext cx="208908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18"/>
          <p:cNvGraphicFramePr/>
          <p:nvPr/>
        </p:nvGraphicFramePr>
        <p:xfrm>
          <a:off x="3780000" y="5373720"/>
          <a:ext cx="1871640" cy="1119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64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80000" y="5373720"/>
                    <a:ext cx="187164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20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5122800" cy="44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94c600"/>
                </a:solidFill>
                <a:latin typeface="Century Gothic"/>
              </a:rPr>
              <a:t> </a:t>
            </a:r>
            <a:br>
              <a:rPr sz="2200"/>
            </a:br>
            <a:r>
              <a:rPr b="0" lang="ru-RU" sz="2800" spc="-1" strike="noStrike">
                <a:solidFill>
                  <a:srgbClr val="94c600"/>
                </a:solidFill>
                <a:latin typeface="Century Gothic"/>
              </a:rPr>
              <a:t>ТЕОРЕМА ЛОПИТАЛЯ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3592440" y="3938760"/>
                <a:ext cx="1676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1A8F-AD5E-46E3-8DD1-D13E08068C77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7"/>
          <p:cNvSpPr/>
          <p:nvPr/>
        </p:nvSpPr>
        <p:spPr>
          <a:xfrm>
            <a:off x="611280" y="836640"/>
            <a:ext cx="698508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функции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ы и имеют производные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'(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'(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 ≠ 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которой окрестности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роме быть может самой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пу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, если существует предел отношения производных этих функц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2554200" y="3125880"/>
                <a:ext cx="4178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8"/>
              <p:cNvSpPr txBox="1"/>
              <p:nvPr/>
            </p:nvSpPr>
            <p:spPr>
              <a:xfrm>
                <a:off x="4649760" y="5229360"/>
                <a:ext cx="17715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26920" y="620640"/>
            <a:ext cx="6483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just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о существует и предел отношения самих функций</a:t>
            </a: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                   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 имеет место следующее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041D-5243-4D0A-9F02-FB1525D9864E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3635280" y="1052640"/>
                <a:ext cx="15084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5"/>
              <p:cNvSpPr txBox="1"/>
              <p:nvPr/>
            </p:nvSpPr>
            <p:spPr>
              <a:xfrm>
                <a:off x="2100240" y="2637000"/>
                <a:ext cx="3978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TextBox 9"/>
          <p:cNvSpPr/>
          <p:nvPr/>
        </p:nvSpPr>
        <p:spPr>
          <a:xfrm>
            <a:off x="755280" y="579600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539640" y="3573360"/>
            <a:ext cx="727236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Gothic"/>
              </a:rPr>
              <a:t>Замечание. </a:t>
            </a: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Отметим, что формула (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) справедлива только в том случае если предел, стоящий справа, существует. Может случиться, что предел, стоящий слева существует, в то время как предел, стоящий в правой части равенства, не существу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6"/>
              <p:cNvSpPr txBox="1"/>
              <p:nvPr/>
            </p:nvSpPr>
            <p:spPr>
              <a:xfrm>
                <a:off x="4932360" y="5462640"/>
                <a:ext cx="2206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331640" y="-963720"/>
            <a:ext cx="64832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5CA2-FCAE-48BE-A35D-56FBE2F86BB3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4"/>
              <p:cNvSpPr txBox="1"/>
              <p:nvPr/>
            </p:nvSpPr>
            <p:spPr>
              <a:xfrm>
                <a:off x="879480" y="781200"/>
                <a:ext cx="53481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TextBox 11"/>
          <p:cNvSpPr/>
          <p:nvPr/>
        </p:nvSpPr>
        <p:spPr>
          <a:xfrm>
            <a:off x="695520" y="2195640"/>
            <a:ext cx="40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предел отношения произво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5"/>
              <p:cNvSpPr txBox="1"/>
              <p:nvPr/>
            </p:nvSpPr>
            <p:spPr>
              <a:xfrm>
                <a:off x="4716360" y="2035080"/>
                <a:ext cx="14702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TextBox 13"/>
          <p:cNvSpPr/>
          <p:nvPr/>
        </p:nvSpPr>
        <p:spPr>
          <a:xfrm>
            <a:off x="672120" y="28432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уще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7238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50560" y="1557000"/>
            <a:ext cx="777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entury Gothic"/>
              </a:rPr>
              <a:t>1)  Неопределенности  типа      или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ля вычисления предела                 ,  относящегося к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определенности типа        или       , при  условии  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 существовании конечного предела   пользую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равилом  Лопитал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547A-70B2-44A0-A260-2A15F9349F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5"/>
          <p:cNvGraphicFramePr/>
          <p:nvPr/>
        </p:nvGraphicFramePr>
        <p:xfrm>
          <a:off x="5867280" y="1413000"/>
          <a:ext cx="36540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413000"/>
                    <a:ext cx="3654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4"/>
          <p:cNvGraphicFramePr/>
          <p:nvPr/>
        </p:nvGraphicFramePr>
        <p:xfrm>
          <a:off x="7020000" y="1341360"/>
          <a:ext cx="6872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0000" y="1341360"/>
                    <a:ext cx="68724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Object 8"/>
          <p:cNvGraphicFramePr/>
          <p:nvPr/>
        </p:nvGraphicFramePr>
        <p:xfrm>
          <a:off x="4572000" y="1919160"/>
          <a:ext cx="1512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1919160"/>
                    <a:ext cx="1512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Object 10"/>
          <p:cNvGraphicFramePr/>
          <p:nvPr/>
        </p:nvGraphicFramePr>
        <p:xfrm>
          <a:off x="4591080" y="2944800"/>
          <a:ext cx="35892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91080" y="2944800"/>
                    <a:ext cx="358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2"/>
          <p:cNvGraphicFramePr/>
          <p:nvPr/>
        </p:nvGraphicFramePr>
        <p:xfrm>
          <a:off x="5796000" y="2944800"/>
          <a:ext cx="366840" cy="79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1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6000" y="2944800"/>
                    <a:ext cx="3668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14"/>
          <p:cNvGraphicFramePr/>
          <p:nvPr/>
        </p:nvGraphicFramePr>
        <p:xfrm>
          <a:off x="2195640" y="3411360"/>
          <a:ext cx="1584360" cy="64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4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95640" y="3411360"/>
                    <a:ext cx="15843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16"/>
          <p:cNvGraphicFramePr/>
          <p:nvPr/>
        </p:nvGraphicFramePr>
        <p:xfrm>
          <a:off x="7093080" y="2813040"/>
          <a:ext cx="1224000" cy="841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7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93080" y="2813040"/>
                    <a:ext cx="122400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19"/>
          <p:cNvGraphicFramePr/>
          <p:nvPr/>
        </p:nvGraphicFramePr>
        <p:xfrm>
          <a:off x="2124000" y="4751280"/>
          <a:ext cx="2376720" cy="1486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9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24000" y="4751280"/>
                    <a:ext cx="23767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Object 18"/>
          <p:cNvGraphicFramePr/>
          <p:nvPr/>
        </p:nvGraphicFramePr>
        <p:xfrm>
          <a:off x="4716360" y="4829040"/>
          <a:ext cx="2160720" cy="1408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1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16360" y="4829040"/>
                    <a:ext cx="216072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Rectangle 20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Пример </a:t>
            </a: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1599840"/>
            <a:ext cx="18111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Найти</a:t>
            </a: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5BED-79B7-4D7C-A8E2-6306587B7332}" type="slidenum">
              <a:rPr b="0" lang="ru-RU" sz="12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Объект 4"/>
              <p:cNvSpPr txBox="1"/>
              <p:nvPr/>
            </p:nvSpPr>
            <p:spPr>
              <a:xfrm>
                <a:off x="711360" y="1989000"/>
                <a:ext cx="20239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8" name="TextBox 5"/>
          <p:cNvSpPr/>
          <p:nvPr/>
        </p:nvSpPr>
        <p:spPr>
          <a:xfrm>
            <a:off x="133200" y="3213000"/>
            <a:ext cx="67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Имеем неопределенность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Объект 6"/>
              <p:cNvSpPr txBox="1"/>
              <p:nvPr/>
            </p:nvSpPr>
            <p:spPr>
              <a:xfrm>
                <a:off x="6629400" y="2997360"/>
                <a:ext cx="7048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∞</m:t>
                            </m:r>
                          </m:num>
                          <m:den>
                            <m:r>
                              <m:t xml:space="preserve">∞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Объект 7"/>
              <p:cNvSpPr txBox="1"/>
              <p:nvPr/>
            </p:nvSpPr>
            <p:spPr>
              <a:xfrm>
                <a:off x="755640" y="4005360"/>
                <a:ext cx="650880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∞</m:t>
                            </m:r>
                          </m:num>
                          <m:den>
                            <m:r>
                              <m:t xml:space="preserve">∞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TextBox 8"/>
          <p:cNvSpPr/>
          <p:nvPr/>
        </p:nvSpPr>
        <p:spPr>
          <a:xfrm>
            <a:off x="789480" y="544500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твет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66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78920" y="1557360"/>
            <a:ext cx="7417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entury Gothic"/>
              </a:rPr>
              <a:t>2)</a:t>
            </a:r>
            <a:r>
              <a:rPr b="1" lang="ru-RU" sz="2400" spc="-1" strike="noStrike">
                <a:solidFill>
                  <a:srgbClr val="000099"/>
                </a:solidFill>
                <a:latin typeface="Century Gothic"/>
              </a:rPr>
              <a:t>  </a:t>
            </a:r>
            <a:r>
              <a:rPr b="1" i="1" lang="ru-RU" sz="2400" spc="-1" strike="noStrike">
                <a:solidFill>
                  <a:srgbClr val="000099"/>
                </a:solidFill>
                <a:latin typeface="Century Gothic"/>
              </a:rPr>
              <a:t>Неопределенности  типа</a:t>
            </a: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ля вычисления предела: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                            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носящегося к неопределенности типа          ,             следует преобразовать произведение                              в частное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4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CF11-2822-424B-8083-DF356BEA4E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4"/>
          <p:cNvGraphicFramePr/>
          <p:nvPr/>
        </p:nvGraphicFramePr>
        <p:xfrm>
          <a:off x="5435640" y="1413000"/>
          <a:ext cx="108108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413000"/>
                    <a:ext cx="108108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7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Object 6"/>
          <p:cNvGraphicFramePr/>
          <p:nvPr/>
        </p:nvGraphicFramePr>
        <p:xfrm>
          <a:off x="4932360" y="1989000"/>
          <a:ext cx="288144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989000"/>
                    <a:ext cx="288144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Rectangle 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Object 8"/>
          <p:cNvGraphicFramePr/>
          <p:nvPr/>
        </p:nvGraphicFramePr>
        <p:xfrm>
          <a:off x="7308720" y="3041640"/>
          <a:ext cx="865440" cy="49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720" y="3041640"/>
                    <a:ext cx="86544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Object 10"/>
          <p:cNvGraphicFramePr/>
          <p:nvPr/>
        </p:nvGraphicFramePr>
        <p:xfrm>
          <a:off x="5940360" y="3500280"/>
          <a:ext cx="1513080" cy="49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3500280"/>
                    <a:ext cx="15130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Rectangle 13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Object 12"/>
          <p:cNvGraphicFramePr/>
          <p:nvPr/>
        </p:nvGraphicFramePr>
        <p:xfrm>
          <a:off x="611280" y="4581360"/>
          <a:ext cx="2879640" cy="1408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9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4581360"/>
                    <a:ext cx="287964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Rectangle 15"/>
          <p:cNvSpPr/>
          <p:nvPr/>
        </p:nvSpPr>
        <p:spPr>
          <a:xfrm>
            <a:off x="3465720" y="4723200"/>
            <a:ext cx="36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пределенность тип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Object 14"/>
          <p:cNvGraphicFramePr/>
          <p:nvPr/>
        </p:nvGraphicFramePr>
        <p:xfrm>
          <a:off x="7236000" y="4508640"/>
          <a:ext cx="365040" cy="93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2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6000" y="4508640"/>
                    <a:ext cx="36504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Rectangle 17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94c600"/>
                </a:solidFill>
                <a:uFillTx/>
                <a:latin typeface="Century Gothic"/>
              </a:rPr>
              <a:t> </a:t>
            </a:r>
            <a:r>
              <a:rPr b="0" i="1" lang="ru-RU" sz="24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45" name="Object 4"/>
          <p:cNvGraphicFramePr/>
          <p:nvPr/>
        </p:nvGraphicFramePr>
        <p:xfrm>
          <a:off x="1258920" y="1735200"/>
          <a:ext cx="2951280" cy="13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35200"/>
                    <a:ext cx="295128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2BA3-D1E7-41F0-8710-BC00678E02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Object 7"/>
          <p:cNvGraphicFramePr/>
          <p:nvPr/>
        </p:nvGraphicFramePr>
        <p:xfrm>
          <a:off x="7596360" y="1557360"/>
          <a:ext cx="52380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557360"/>
                    <a:ext cx="5238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9"/>
          <p:cNvSpPr/>
          <p:nvPr/>
        </p:nvSpPr>
        <p:spPr>
          <a:xfrm>
            <a:off x="395280" y="173232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3897720" y="1915200"/>
            <a:ext cx="36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пределенность тип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973440" y="38595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 воспользоваться  правилом  Лопита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6:15:39Z</dcterms:created>
  <dc:creator>к.502</dc:creator>
  <dc:description/>
  <dc:language>en-US</dc:language>
  <cp:lastModifiedBy>Пользователь</cp:lastModifiedBy>
  <dcterms:modified xsi:type="dcterms:W3CDTF">2018-07-01T12:37:23Z</dcterms:modified>
  <cp:revision>70</cp:revision>
  <dc:subject/>
  <dc:title>ПРОИЗВОДНАЯ  ФУНКЦИИ </dc:title>
</cp:coreProperties>
</file>